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1723-1504-405D-A3BB-EE684ADF140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TBI summ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A243-2701-46F5-BB90-7B02C7EF6DD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Genev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0FE5-210B-443E-BC5F-0C86219D87A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0931-3F58-40A7-A218-0A7582DF3C4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F45D-AC88-4B83-96B6-AE9FDFA7DC7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C39D-8F36-43EE-8C9B-3C7342F4998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57A89-D604-4B6B-B7B6-D9F40452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7BF3A-C587-46F7-9400-A9BD3D7D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3F7A7-14BA-4F1C-9598-76A04C19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17909-B5C6-448A-95AD-6B7195AD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A37D5-9757-47CF-A565-0288493B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D70FB-E98C-45CF-AFCD-EC22AB64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D88A7-B170-46E6-8D36-5158A806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5B130-E0A2-4B07-B242-5E99D8DC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453AD-A585-4040-97C3-F4A84D17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8CDFD-08D0-49B5-9D78-49D1C7AD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B0EA3-B750-4E11-89B9-460EEE6C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2D857-4AB5-4C49-AA64-25C3B731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03A81-4D59-4C67-A8B3-40C3239F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02716-AF9A-42E4-82AA-B4B370E5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43BB0-04EB-4B4F-9910-BCC82379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B12E1-F5D7-4BC3-9B2D-5F9F30C4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D1129-5488-402A-95C0-5E4B2C7D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4B1B1-22B6-4A2F-80D4-8762E86B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71373-9C9A-4520-9A90-294A66BD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8A464-CA2C-4122-B3EB-7D77E990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13E30-5791-4D57-8C77-45307023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609EF-47C1-42CC-83CA-7135A939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452D2-3E3E-4A7E-B89A-0D23D8E7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4319C-F045-486D-883B-9ACEBDDF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C4217-EFD0-43C3-81CC-D31855DF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1CB9C-1428-40EB-9197-96D92FA3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D885C-A9B0-4B2B-9D0C-1E45A70F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52DF6-D161-4B96-A68B-41BDE497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DE9DB-7D49-4AE1-9887-B645219F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CB10A-DB67-45CE-B70D-C66C69D7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C0C4-3D6B-404F-9CB8-AAAB6421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E8660-61B4-4F32-8282-CEFE4D92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923E8-02CC-4A64-B211-C32DAAF2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189E0-FBA2-4955-B242-D2A56F75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7BD84-330E-403B-884D-97930F43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FF42B-645C-4CC4-8417-6D5ED1BF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5BB6B-348C-4D2B-A73C-07C35C75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D2D1A-9B5F-4590-BF5F-1D35774F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B30AF-16FD-46DF-97B6-AB742AEE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480A8-2013-4E39-A926-3312C81B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27CBA-CECA-4500-B2A1-BC8DC412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8683-5336-4BE9-97E3-432C2F4D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EEC11-3375-4101-8388-99ACEB6D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F1D7A-FA23-442A-A79F-FC6724E4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7AE75-8A17-4350-9C6C-E295B4BD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9EBFA-C29F-4627-A51C-4DC17DC4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673B2-03FD-4186-90B0-FDCE1881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F8646-8424-4F9D-A29B-1700502C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58F30-014C-4559-8BA2-71E9C366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CB3B4-2073-457E-AFED-0688CCFD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EB4CF-DBB9-471D-9413-5C1D990A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E6D02-FA17-4AA3-B284-7F4B25BA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69C3-9316-4DB3-A6BE-8153B365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3453A-DEC8-4AA5-BB58-51272835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5AC3E-7C5B-4416-B85F-7F3FC384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3F626-11B0-4EA6-95ED-156B21F9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3994F-F4EE-4F42-B1D5-2DB9D4F3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55753-7897-4BD3-9D0C-C251D908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2DA58-514F-4B1A-8BD0-BF8B07B2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E749D-8329-4433-9013-545DC94A7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C20C2-BC5A-4ED0-B9BD-1F983522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9D4EA-ED4A-4131-9863-D82D75F0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84702-27A2-4A6A-9542-CA8753D8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84A7-E04D-4512-A4F3-9E4874F4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6EEBA-D40E-4644-BE68-83B13B06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A0D40-2DB3-4F81-912C-C20BDE2D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7D63B-E51A-440A-A820-FA6A7EFE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5D4A7-54C1-41ED-A028-B8813115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52DB7-C012-49E2-BF24-CD6E14B0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C9455-931A-4635-BA91-F3FE7B16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B8E79-BC2B-4E87-B03B-B77A6030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98AC1-9712-42C2-8BC3-EB7EA4AA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0DF79-F3AD-4103-B262-80E09029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83A066-469F-434D-AE85-EB83402F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B310-1C5B-4926-83F2-10716FE8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96DF17-747A-4794-BDF7-E65DFCE3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C1348-6854-4EE9-8095-926E2AA9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42DEB-D4DA-478F-8E5B-F140C459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F17B73-C1C9-4E52-8D4B-B87EA8BB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27E4C-0C00-4D0E-B71F-82625142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16CF22-102A-48B2-BB34-456D2B6A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9CCAD0-4366-43CA-A1D6-5285E234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B96048-4516-43B4-92BA-39895A04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BD37E3-A679-46C1-8E23-F1D06359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240EC7-A4A9-4DCD-8205-B099A81D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9738-B64A-4ADA-8BFE-80D8733F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335D01-A60D-4FD4-95EE-E09C18A7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13FAE4-CED2-43E4-BE7D-E068F9E0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A5CA27-F949-4C51-B105-1C2D6AAC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AFECC4-FE20-4E36-9D3B-BCDB3405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BD6ACF-2064-46D4-A1C1-AAE1E01A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5D2B43-3A14-4A91-8684-7334EF36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BE7957-5418-416C-9B19-67EBB6DC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3D4A9D-68E0-419C-A454-5CB14F5D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F8ADE7-9B05-4DD9-93C0-052ECCD8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978520-9B57-4484-9B62-E4BADC45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6FAC-3A3D-4812-A501-F55FEBBF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ED4EB7-1F8C-4690-83EA-B588D714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FCF072-6448-4E76-839D-7D3EBF74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6321F0-AB55-46A8-88C5-B75DCE19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C8F6A2-5777-41CC-B626-9BE0E4E0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CFC0EA-7210-42D4-9862-CCF84E20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47A24A-1B5B-45DA-BC8A-5D18637F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F92706-E9CE-47AD-AE75-E2A234A8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EBCF6C-FF8E-4E94-91CA-AC4650E8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96741C-3F62-4BBB-820E-656ECDDA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7E3B78-D0D8-47CD-A7A9-F0F1FFDD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803A-5262-4FA0-96E2-4C3A55C7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C16CB9-AE11-4E39-A0EE-5156D611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40C9F2-B497-434A-872E-5E34F4DA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4DAA5A-309E-4EBC-8675-7F23AE56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BEE3D3-2410-488E-9D36-2C97144C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A67ABC-CDB7-41DE-B107-8A61B683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12F7A7-3C4E-4135-8990-AA14DBF6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5D379A-DC0A-49B2-A8EF-A529AC6A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360B97-49B6-4A1E-B068-C058DF87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7DD2B3-C7C0-47E8-8836-C4B8AB7E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3B368F-9AFF-4344-B9E3-7FA300C7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5521-C867-43C5-BE95-14EE5066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1A2B3C-CDB5-4F2B-93E8-0BF460ED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644E0B-3259-4087-8D4A-12207E9B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78FAF5-5BC0-4D55-9EE2-7B4A0802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6183A5-9B11-4D58-B0AF-7F8FB966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6AF83C-1B84-4726-ABA1-A8C46C4F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CA0C6E-952B-429B-A06F-8690E1CD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AA26D7-D80B-4971-81A0-08E2EDE7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A7A75C-D9EA-4517-BBF5-3EB7C14A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A13817-B8C5-42B5-93D0-0E104D58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7FC264-77E2-4623-AC8D-FBC8DDE6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60DC-0E78-4D2F-AF25-A1D134CA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F94119-2CA5-492E-865A-F82F2E8C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1B3102-D61B-4591-9EA1-A3FC3CBB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01B1AB-F86A-48C0-843D-9C475B77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B0CCA4-FA07-482F-B96E-C08E4A2D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665B1F-1C6F-4E42-91CF-6736B5CC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F3527D-86F1-4A6A-AFD4-BA870E14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12A977-D34E-45D3-B150-6010CE09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1ED80A-C7AF-4FBE-B39B-D3FC71EA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A5EAF4-8185-4901-9446-C6FFB220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9E9521-3763-4B68-8DCA-CDD782E5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6B34-66BC-4C44-BCFC-279CCBC4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102E11-630E-4B45-8EB7-7DF303FA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488724-CFB7-401D-8F0A-3B387CC8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7D6B1C-BF8D-4546-B2DE-F8FC0497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1CCD8F-BFAD-47E4-BDDF-2FB2DE6D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A59FCE-8F6F-47B3-A8AA-5360AD0E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4C40AF-894B-4C52-86F3-DF7341AB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A19FE1-6071-42FF-A2DF-67B66014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5D8DBF-C83B-4AAA-87BB-BE980DD5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956D13-A013-4E08-AB79-10D1959F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2C7BCE-8F95-48F9-A673-5CD54B23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A842-6E51-4496-8C06-CCD259AE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145130-6566-4F66-A7E2-E290BE37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6B00D4-4992-4042-BDB9-44C4979C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09B99D-60C2-442E-8F6D-55FFA8A8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9AFD76-C9C4-4A01-8D35-B373445F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51ED28-B9F7-427B-8EF3-82978A4C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4F6F98-631D-4139-B57C-D73F889A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BBC532-C7B8-4C48-8B87-065BAE3D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22944F-A924-48CE-B98F-3AC63656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03B194-A465-45A9-AB88-246FE458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8AF944-BC50-4188-99F3-51BA3111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A51F-B181-4E3F-A1C3-F3B9E780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D6D5AC-6352-4D60-BFBA-79BCA905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92576B-2B59-43F1-98BA-E036FA3D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CA194C-DF08-41FE-AEC1-6D5EACA2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35EB8C-4366-4C38-978C-F3FDEDC7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AE4BAE-6A92-4982-90F4-22751B7E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A87187-0FA4-40D9-BF8E-66724D83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437F01-9E74-499A-958A-D11F68B1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F7A6D9-A797-4D60-96D7-D67957F1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18689A-239F-4B50-8BA4-E3A1508B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C8A99A-B683-4AB5-8DCB-1368220B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D4BA-811D-48C8-A9C0-A505D409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D83EE2-7649-4930-8408-C8797E3F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A42475-A0B6-4664-BF9A-9DFDB680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F731C4-693C-4AE9-962C-DBC241A2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0D1FD1-EC20-46A1-B7B5-56943A9B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4041AB-F0D1-4186-8A03-74A68462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2D5E56-98F3-4393-8591-4571476D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DE9EF0-1181-4620-BB59-3A239E34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8D21D0-EC49-4680-A9A3-7E116F71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16641F-64DA-49D7-9EB4-FCAE57B3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6A91C1-8C19-427E-924F-45C5B62F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20BF-7C0E-4E1A-B6FF-7186D0DD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8DFB4B-2D18-411D-AC60-0FAF0DFB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56F1F5-274D-4F79-971E-F1161A4C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5C3B16-A729-42E9-ACBD-3D3EEB75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9C7DE7-F591-4D9A-B25E-D5E39833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77760F-5CF5-454D-A920-B3AAC4AA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A08C6E-4024-4576-B486-2FF5780B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030736-13A1-479A-8584-820E1FAD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484154-C1C5-4AC2-B5F0-851D6C32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BAE1EF-D3E2-4D1E-A44A-58B6DBFD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50243D-D5E3-4B9E-8C22-7DFAB128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30E0-BB1C-40C5-836B-7A75A0C1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742DF9-0052-4E84-BAEF-91714813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B24890-6A96-45E2-8C07-6C12AF04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057E74-A321-4E9B-834A-918BD6C8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61C4AC-BD32-4EEA-B571-B67D2F35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37991A-B295-49C6-91FF-CC9E815D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C8875E-C82C-477A-9CAF-3E1D2430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3BF723-C017-48AC-AF98-9906F3FE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87AED7-E152-4FCE-A4A2-3C3F803E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9B6F52-9298-45CE-96F8-F6D4E915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8C9368-46C4-4C68-9031-D4A4CA56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9B8E-620D-49E0-983E-CF4A2CAC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64FA9F-CEF9-477E-92D7-BB98D66F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5D3492-C74C-4471-9615-6CBF3F9C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DC704C-EE66-45E0-B2EF-84CEA30F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E3DA72-AFF8-4285-A611-0063EFC8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F41657-D574-4B22-B5D0-F33147AC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33785C-0114-4038-83F5-6D88497E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3D98DC-79A3-473D-83CA-2CD1F5A7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7CCEEE-5671-4A64-9DB9-2551F08A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991EA6-C46B-4934-9D1C-FBC98386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9210DF-9356-4D78-B095-0ABAB608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EC27-9C91-4CEE-85CE-EB902B2B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8CE020-3026-422B-A6BF-8520688A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78C189-0B16-4134-B044-0250F329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F6BB13-786F-41FE-A575-8FCEFCC7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CF0870-1672-49E7-B2DF-844BBF2A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9832E9-1927-454B-BE5F-83B90D9B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4229EA-F291-4096-906C-FBB682B9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BC8670-93D4-4D81-B925-4AE5A890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73AA00-B241-452E-AFD3-9CF0EB8E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C4016B-3799-443F-BC01-69A385A3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7BE331-D324-48CA-9966-D9D8136C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07F5-E9D3-4498-BEDA-52D5D343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C13FFC-E964-443C-964E-D5BE7C3F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3E138F-9117-4AF9-B62E-801FE3B5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2DD1F4-99AE-4B6C-8185-CBE60D5B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D621E3-B143-4CEE-940B-4C33790B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7DAA87-619C-43D2-AAF2-C6084230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A4531F-3E51-4631-B985-2F4B01E1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0D9003-827E-4EA9-95F3-93638E7F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546563-1B19-440F-A969-F2ABFE36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34ADEA-D1E7-4548-BDB8-6A07C774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507CD0-7570-45C3-A65C-59CBE654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B9A4-099D-4B4F-9DE2-560ECD80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A4B247-6096-4884-8BA9-493DA59F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83B4E3-4937-421C-999C-74DA0FED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0B0E74-3E74-4731-9025-4442EE45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9F9712-F1D0-4CE0-89EB-EBB441EB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2DEE58-82AD-47F2-85C5-9B0E4D4CB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3AF8B5-4A50-419A-BE7D-0FBC5FA5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B6E56D-3217-4781-8946-56E09143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7BB853-0662-453B-9883-F7B9B766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487B11-6CA7-453B-BF58-D5C2821D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B6A47A-E7DD-4E98-A50D-9E7F2A01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625D-0FA0-44D0-9BF8-9C382305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6281CA-8054-4D48-A2AC-E0D93C3F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3270C3-2AAA-4939-90FF-229BB9C3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4834C7-CE89-4D60-87BF-C56AE06A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587065-3EBE-4C6F-AA6D-D0911EA1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EA8666-2DA2-445D-A12A-FCC4986C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11C3D2-EC19-4AAD-91E0-4AAEA263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878EF6-F530-4859-8EFE-6C5016ED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5BA0-4A01-45C4-86C7-4D47FBC8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3C15-E7AF-42C4-AC45-D17760CE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67F9-73A0-4C3B-B741-408397F95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72567-FF69-445D-AC36-58464F3C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7D205-8B39-4034-BB1E-E272C3A7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6B342-C4AC-4E91-BEE7-9A7AEA29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1220A-5704-4730-97BC-86BF50F6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D9BEF-8032-4F66-A8FA-611D9586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5E094-7CCA-488A-A6A5-68442730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32FF4-812E-44EF-A40E-80F424AA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76857-1BA5-43AE-B401-FB69ED1D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2DC64-C693-4444-AE1D-565CC1E3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532A2-FDBA-4E37-B975-65247540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FD9DA-68EC-4E53-A05A-5A98CA4C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4D10D-6903-488C-8D6C-19E2E8A9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5C781-DEED-4D69-AC37-10AD23DE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B4A3B-7A94-4192-88B2-E8FA7E5F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BD5A8-327A-4891-A8F5-2F493912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68F32-E556-403D-9C24-94DE53DF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2BE3F-5356-4545-A033-C95F7624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91220-6398-421B-84E9-4853AA06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CC4CB-2D6E-489F-98CD-79002241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96B18-1701-4425-8685-AFBA7C74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FE127-4109-42CD-B6E3-19E0EC31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7F4B3-1212-4A81-A519-58F9D601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3F302-8191-4C2E-B3CF-C99F8080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A0748-9784-48E0-BB25-89EEAAF4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836E3-E8F1-4716-9FB2-352B7261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11692-8082-457B-A384-149FEE1E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9BE7C-B130-4F39-83A1-68B4A39B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53592-CB31-4524-B2FB-C90D11B3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5771E-1D28-4FCB-B6B7-EB689364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BF3DF-C6A9-4B96-8C69-F30D421D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98D31-BD14-4EB1-826C-64D3D7A7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AC9A7-C3BE-408B-9151-DD3FB014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E54D7-D6B9-4A3F-9D1D-6AF8D198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8B682-A982-43DF-A021-23F7729F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BF9EE-A1D3-4027-9C58-BB4CF208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B8E89-C34C-4D8B-9212-C01DFE0B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6E80F-9186-45CB-A5B6-0102D6A5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B5029-CEC0-42FA-8B86-0DDCEB38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63E45-8F31-4C00-9DB5-E47215D6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ED543-0044-46E5-BF9B-3B9E5D84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36D90-67FC-4468-92E1-6A69E4E1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7763A-17EE-483F-BA23-9BF53C81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9A2C9-3021-4519-A007-C4DD881F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6BE34-D747-40CE-B6CC-9B2CFDCD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77701-B1AF-49BD-B6E9-8A7AF632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CC6A3-10BC-4DA1-B4A6-4ECB6B05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CD933-EC66-4BB7-A4EC-120A34E6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9955B-68D9-4770-B77D-99F39DFD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C843D-99ED-470E-A97C-2D93A5B9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52BCB-A39C-479A-B52A-39168DF0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5BCE9-1D89-4B63-8DCF-E8F1D67D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63E4-A12E-49CA-B842-C821A4572F86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D519-9EB3-4A2B-A8DC-74B43A4D15F3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50D0-4570-45A4-B814-F55387A39D90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EE51-DEEB-4B93-A0D9-E027FA28EE0A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08FE-FADF-4C1E-9E24-8FDA382A0A7A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ED03-ABA2-4D3A-8110-DDB116A23149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3F6F-C027-415F-A7B0-B6EF9FA347DA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97C8-4689-415C-9B7B-723C476DE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F782-62EF-4EB2-9E4B-FC418CD5A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F811-CBC1-499C-97CA-D3C99EEC8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413F-C31C-4709-81BF-D4D6861C5550}" type="slidenum">
              <a:rPr b="0" lang="en-US" sz="1400" spc="-1" strike="noStrike">
                <a:solidFill>
                  <a:srgbClr val="ff9966"/>
                </a:solidFill>
                <a:latin typeface="Times New Roman"/>
                <a:ea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F383-303F-4FCA-BACA-5847F1D52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8C52-D12B-4956-9B30-5FBF4E8CB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08BB-0CF5-47CB-9B14-2029720E4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14AB-6272-4B9F-85F3-D472A96D9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75D4-98E6-449B-A5FD-D43DCDF8B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A4E5-70F3-4620-BE38-2B1EE6599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3AEB-1124-4E07-B7B4-BC7B4536D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7674-8D6F-42A9-B8F1-CA5A8936E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A9A0-F9B0-4522-9B4C-BB20F6614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0C8B-AF61-4518-8B8F-F342E0547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71160"/>
            <a:ext cx="533412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5c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45c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71680" y="888840"/>
            <a:ext cx="85723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343080" indent="-339840">
              <a:lnSpc>
                <a:spcPct val="130000"/>
              </a:lnSpc>
              <a:spcBef>
                <a:spcPts val="799"/>
              </a:spcBef>
              <a:buClr>
                <a:srgbClr val="ac46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2" marL="343080" indent="-339840">
              <a:lnSpc>
                <a:spcPct val="130000"/>
              </a:lnSpc>
              <a:spcBef>
                <a:spcPts val="799"/>
              </a:spcBef>
              <a:buClr>
                <a:srgbClr val="ac4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3" marL="343080" indent="-339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4" marL="343080" indent="-339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5" marL="343080" indent="-339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6" marL="343080" indent="-339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16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168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BD74-9D00-4E07-B7F4-91E25CB5BAC7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rc 3"/>
          <p:cNvSpPr/>
          <p:nvPr/>
        </p:nvSpPr>
        <p:spPr>
          <a:xfrm>
            <a:off x="0" y="843120"/>
            <a:ext cx="28954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59F1-BED0-4F75-8401-58F0BC161A05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66AA-8E3E-49DE-B5E7-05349E7BB2ED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2AF0-6BA6-4BA7-9731-9810435FA93F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6115-9FE3-4A0A-A247-EADF1A6D44A9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Predator-Prey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â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6" name="Picture 2" descr="figure 17-03.jpg                                               0000A6A3Discovering 2.0 IRCD           B562F59D:"/>
          <p:cNvPicPr/>
          <p:nvPr/>
        </p:nvPicPr>
        <p:blipFill>
          <a:blip r:embed="rId1"/>
          <a:stretch/>
        </p:blipFill>
        <p:spPr>
          <a:xfrm>
            <a:off x="584280" y="1484280"/>
            <a:ext cx="8535960" cy="4707000"/>
          </a:xfrm>
          <a:prstGeom prst="rect">
            <a:avLst/>
          </a:prstGeom>
          <a:ln w="0">
            <a:noFill/>
          </a:ln>
        </p:spPr>
      </p:pic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nature red in tooth and claw</a:t>
            </a:r>
            <a:r>
              <a:rPr b="1" lang="ja-JP" sz="36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1" lang="en-US" sz="36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8" name="Picture 2" descr="figure 18-02 #1902.jpg                                         0000A6A4Discovering 2.0 IRCD           B562F59D:"/>
          <p:cNvPicPr/>
          <p:nvPr/>
        </p:nvPicPr>
        <p:blipFill>
          <a:blip r:embed="rId1"/>
          <a:stretch/>
        </p:blipFill>
        <p:spPr>
          <a:xfrm>
            <a:off x="971640" y="1449360"/>
            <a:ext cx="7345440" cy="5432400"/>
          </a:xfrm>
          <a:prstGeom prst="rect">
            <a:avLst/>
          </a:prstGeom>
          <a:ln w="0">
            <a:noFill/>
          </a:ln>
        </p:spPr>
      </p:pic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hare and lynx populations (Canada)</a:t>
            </a:r>
            <a:endParaRPr b="1" lang="en-US" sz="3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90" name="Text Box 4"/>
          <p:cNvSpPr/>
          <p:nvPr/>
        </p:nvSpPr>
        <p:spPr>
          <a:xfrm>
            <a:off x="826920" y="1052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Note regular periodicity, and lag by lynx population peaks just after hare pe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ahoma"/>
                <a:ea typeface="DejaVu Sans"/>
              </a:rPr>
              <a:t>Generic Mode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192" name="Picture 4" descr=""/>
          <p:cNvPicPr/>
          <p:nvPr/>
        </p:nvPicPr>
        <p:blipFill>
          <a:blip r:embed="rId1"/>
          <a:srcRect l="1633" t="0" r="1633" b="0"/>
          <a:stretch/>
        </p:blipFill>
        <p:spPr>
          <a:xfrm>
            <a:off x="1116000" y="1413000"/>
            <a:ext cx="5904000" cy="2200320"/>
          </a:xfrm>
          <a:prstGeom prst="rect">
            <a:avLst/>
          </a:prstGeom>
          <a:ln w="0">
            <a:noFill/>
          </a:ln>
        </p:spPr>
      </p:pic>
      <p:sp>
        <p:nvSpPr>
          <p:cNvPr id="1193" name="Text Box 3"/>
          <p:cNvSpPr/>
          <p:nvPr/>
        </p:nvSpPr>
        <p:spPr>
          <a:xfrm>
            <a:off x="1149120" y="4149720"/>
            <a:ext cx="682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f(x): prey growth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g(y): predator mortality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h(x, y): predation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e: prey into predator biomass conversion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Picture 2" descr="figure 18-10 #19010.jpg                                        0000A6A4Discovering 2.0 IRCD           B562F59D:"/>
          <p:cNvPicPr/>
          <p:nvPr/>
        </p:nvPicPr>
        <p:blipFill>
          <a:blip r:embed="rId1"/>
          <a:stretch/>
        </p:blipFill>
        <p:spPr>
          <a:xfrm>
            <a:off x="838080" y="933480"/>
            <a:ext cx="7772400" cy="5924520"/>
          </a:xfrm>
          <a:prstGeom prst="rect">
            <a:avLst/>
          </a:prstGeom>
          <a:ln w="0">
            <a:noFill/>
          </a:ln>
        </p:spPr>
      </p:pic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alibri"/>
                <a:ea typeface="Geneva"/>
              </a:rPr>
              <a:t>Predator-prey population fluctuations in Lotka-Volterra model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redator-prey system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26560" y="1412640"/>
            <a:ext cx="74581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that populations of rabbits and wolves are described by the Lotka-Volterra equations with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08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02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00002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00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i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measured in y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initially 40 wolves and 1000 rabb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e rabbits population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Text Box 4"/>
          <p:cNvSpPr/>
          <p:nvPr/>
        </p:nvSpPr>
        <p:spPr>
          <a:xfrm>
            <a:off x="1427760" y="5157720"/>
            <a:ext cx="5808960" cy="1557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r: prey growth rate (Malthus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m: predator mortality rate (natural morta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a: prey mortality by pre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b: predation growth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Agent-based modeling for predator-prey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9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: eating pasture increases energy by 20. When energy is &gt;= 30 reproduces if a random neighbor is empty and cut its energy by hal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: by energy (&lt;= 0) [ALL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: 50% chance to kill a neighbor rabbit (one chance per time step). Increases wolves energy by 20% of the habbit’s ener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: When energy is &gt;= 50 reproduces if a random neighbor is empty and cut its energy by hal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ext Box 4"/>
          <p:cNvSpPr/>
          <p:nvPr/>
        </p:nvSpPr>
        <p:spPr>
          <a:xfrm>
            <a:off x="1427760" y="5157720"/>
            <a:ext cx="5808960" cy="1557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r: prey growth rate (Malthus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m: predator mortality rate (natural morta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a: prey mortality by pre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b: predation growth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Agent-based modeling for predator-prey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9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x30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ore neighborh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il needs 4 time steps to become pas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itially space is completely filled with pas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initially 20 wolves and 20 rabb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agent starts with 40 units of ener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bbits consume one unit of energy per time st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lves consume 4 units of energy per time st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ulation runs until time 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Discuss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05" name="Content Placeholder 2"/>
          <p:cNvSpPr/>
          <p:nvPr/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iscrete quantities of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nsiderably more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Behavior is also more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ore difficult to calib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uch more possibiliti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cp:keywords/>
  <dc:language>en-US</dc:language>
  <cp:lastModifiedBy>Pedro Andrade</cp:lastModifiedBy>
  <cp:lastPrinted>2012-10-26T17:22:49Z</cp:lastPrinted>
  <dcterms:modified xsi:type="dcterms:W3CDTF">2016-09-05T17:29:17Z</dcterms:modified>
  <cp:revision>487</cp:revision>
  <dc:subject/>
  <dc:title>Low-carbon growth in Brazil?</dc:title>
</cp:coreProperties>
</file>